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FD2-B25E-4696-B13C-05BA48E6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B788-1E9E-4B43-AD22-A165470A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0B0-8087-4D0E-8EA0-30237346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0D0-CD24-457C-B5B5-122EE242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2CD-661F-4FCA-8102-C675818D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2DB-4316-466D-B997-AF1A39F8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313-13F6-4E51-8675-63C9592A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6D2-396F-401F-B238-691613AF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A10-AC84-4D40-A2E7-4E744C58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CD0-7E98-4088-B2D1-37C8EE9B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601-E1FC-4FE5-A383-A790A01B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A15-51E0-46E0-8DC3-9A322386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AD7EA-8677-41FB-B22C-59A9833FD1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385C2-A1EE-4EAE-8332-C1DE07DEE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7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 Surface Temperature (SST) data quality from the Group for High Resolution SST (GHRSS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Ed Armstrong</a:t>
            </a:r>
            <a:br>
              <a:rPr sz="2200"/>
            </a:b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NASA JPL PO.DAA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GHRSST Science Team me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2011 ESIP Summer mee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14 July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RSST data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2 – 2010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ST data products for GODAE: a international ocean modeling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 included an assessment of Level 2P sensor accuracy (as best can be determined by the provi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RSST terminology for this: Single Sensor Error Statistics (S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ias and standard deviation provided for each pix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the data producer best estimate of the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RSST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ximity_confidence” : 0-5 scale representing assessed pixel qua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ogenous across all sens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is excellent, 4 is acceptable, 3 is suspect, 2 is bad, 1 is really bad (never use), 0 is unpro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jection_flags” &amp; “confidence_flag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bit flags a data provider can use to convey more information, e.g., algorithm used,  is the pixel over/near sea ice.....near land, or over a lake, in high wind region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RSST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ror statistics ultimately tied to the Global Drifter Program (1000+ buoys) and som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 situ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ually to ARGO drifters with improved SST cap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approach has its own intrinsic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RSST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data processing spec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y_level” : overall indication of L2P pixel quality. 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flect CEOS QA4EO (Quality Indicator) guidelines. Also 0-5 fl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2p_flags” : differentiate IR vs MW, land, lake, ice, other additional flag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Screen shot 2011-07-14 at 9.13.41 AM.png"/>
          <p:cNvPicPr/>
          <p:nvPr/>
        </p:nvPicPr>
        <p:blipFill>
          <a:blip r:embed="rId1"/>
          <a:stretch/>
        </p:blipFill>
        <p:spPr>
          <a:xfrm>
            <a:off x="1141560" y="3592440"/>
            <a:ext cx="65246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HRSST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3. Same errors statistics, quality and other flagging as L2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us pixel statistics: number, sum, sum^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4 (blended S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ysis_error”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stimated error standard deviation of analysed_s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ly falls out as part of the Objective Analyses (e.g.,  3D-VAR)  merging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ST error budget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Screen shot 2011-07-13 at 5.15.39 PM.png"/>
          <p:cNvPicPr/>
          <p:nvPr/>
        </p:nvPicPr>
        <p:blipFill>
          <a:blip r:embed="rId1"/>
          <a:srcRect l="-38663" t="0" r="-3866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2484360" y="1890720"/>
            <a:ext cx="2438640" cy="1992240"/>
          </a:xfrm>
          <a:prstGeom prst="rect">
            <a:avLst/>
          </a:prstGeom>
          <a:noFill/>
          <a:ln w="381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484360" y="4060800"/>
            <a:ext cx="2438640" cy="1947960"/>
          </a:xfrm>
          <a:prstGeom prst="rect">
            <a:avLst/>
          </a:prstGeom>
          <a:noFill/>
          <a:ln w="381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ST accuracy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Screen shot 2011-07-14 at 9.58.57 AM.png"/>
          <p:cNvPicPr/>
          <p:nvPr/>
        </p:nvPicPr>
        <p:blipFill>
          <a:blip r:embed="rId1"/>
          <a:srcRect l="0" t="-3314" r="0" b="-3314"/>
          <a:stretch/>
        </p:blipFill>
        <p:spPr>
          <a:xfrm>
            <a:off x="1306440" y="1335240"/>
            <a:ext cx="6054840" cy="3328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Screen shot 2011-07-14 at 9.59.12 AM.png"/>
          <p:cNvPicPr/>
          <p:nvPr/>
        </p:nvPicPr>
        <p:blipFill>
          <a:blip r:embed="rId2"/>
          <a:stretch/>
        </p:blipFill>
        <p:spPr>
          <a:xfrm>
            <a:off x="1407960" y="4210200"/>
            <a:ext cx="57420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4:00:33Z</dcterms:created>
  <dc:creator>Edward Armstrong</dc:creator>
  <dc:description/>
  <dc:language>en-US</dc:language>
  <cp:lastModifiedBy>Leptoukh</cp:lastModifiedBy>
  <dcterms:modified xsi:type="dcterms:W3CDTF">2011-09-21T12:08:00Z</dcterms:modified>
  <cp:revision>34</cp:revision>
  <dc:subject/>
  <dc:title>SST quality from the Group for High Resolution SST (GHRSST0</dc:title>
</cp:coreProperties>
</file>